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7100210"/>
        <c:axId val="49047784"/>
      </c:barChart>
      <c:catAx>
        <c:axId val="6710021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9047784"/>
        <c:crosses val="autoZero"/>
        <c:auto val="1"/>
        <c:lblAlgn val="ctr"/>
        <c:lblOffset val="100"/>
        <c:noMultiLvlLbl val="0"/>
      </c:catAx>
      <c:valAx>
        <c:axId val="4904778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710021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19936-04CA-475C-9EBF-4B2B35F33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95470-8D07-4802-A258-298FE559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DEB36-C958-48D6-844A-8C127BBC5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199E7-39BB-43B6-A795-CE460D30A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1136A-81F6-41C8-8538-43372779F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0C486-6757-4360-8AA9-2C6790FF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08F4C-1A36-48BE-BF66-C9EF0BAFF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AC2CD-B152-4019-BC36-A75D27FBE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B7F13-B0D3-4128-B734-B5B3061CF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F2166-27C5-4987-83C5-A34709BB1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50C1D-AA88-4B29-BA4A-C04691F08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5F0F-FA79-4565-8E6D-10D69C70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3B678-054B-4E97-9CA4-873FB89B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39A30-7375-45A0-B373-77508725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FDA6-AA52-4DB5-ACEB-60D45D2AA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1E358-3AC2-4115-8E6D-EDB627538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AEB04-0C6E-4D73-91B9-AFAEEB513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3B2DF-79A0-47A0-BD69-3FCF72EE6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BC1B-40B2-4642-9417-3A49E507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A0CA-F82E-4A1F-9C1A-ADC0BCD1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81C6-5F32-4277-9B67-6EE47BA9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366B-AA70-48AC-A012-EE18F30EF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56FB-E648-4E0D-B8A1-06FF9915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A2F9-A34A-4E84-ABC9-7F1B58988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86A0D-6513-4447-BF03-1933EE54355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3DB75-EC48-4089-A06C-F3FC4DBCDF7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